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B9E-9F41-47BF-A7A3-1D3888B0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D90-68DE-44CF-9904-F5022DF4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264-4FB0-4217-8C9A-FBF40C23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9DC-3CF0-4F1F-A780-BB609F5E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2463-263C-4DD6-870B-C4140E3E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666-5C11-4F2D-85E4-88D2AC4E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D1FD-8E08-4BC8-8622-3935873B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5E78-9390-4A08-9205-830C09DC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BDC-5EB7-4E45-AA14-00878053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6167-9DFF-436F-829B-467588B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7EB3-10DD-4004-AAD6-FFA94791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D1F-931F-4FA4-BB36-F04D008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765E-D69B-43F4-A891-B8FCE90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F6A1-A9A8-4E9B-B770-8C61528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876B-2CAA-4385-87AE-33CC6B07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8246-9499-4A2A-A1B6-D73B47F3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5CB-242B-4624-A45B-53FC68B3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C0E-B062-4B96-A9E5-031F3F9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F84-85A8-4630-8FF1-F0A79694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3FC-0984-4F14-82C9-C388E8B9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1B7-9459-4665-9F17-AFA115BB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D68-B121-43B8-91C2-5D9D63E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ED1-6480-4969-B4DF-6095D7E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739-DE4E-4FD0-9FBC-653A5AF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4572-C278-4B98-A743-86F64C37B3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3DEA-440F-4A0A-A262-1D0A4838CA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fael Leónidas Trujillo Molin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he Dictator of the Dominic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Trujillo"/>
          <p:cNvPicPr/>
          <p:nvPr/>
        </p:nvPicPr>
        <p:blipFill>
          <a:blip r:embed="rId1"/>
          <a:stretch/>
        </p:blipFill>
        <p:spPr>
          <a:xfrm>
            <a:off x="3733920" y="4038480"/>
            <a:ext cx="1942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31376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rabal Sisters are martyrs in their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so influential that the autho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ia Álvarez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rote a novel about their l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graphic"/>
          <p:cNvPicPr/>
          <p:nvPr/>
        </p:nvPicPr>
        <p:blipFill>
          <a:blip r:embed="rId1"/>
          <a:stretch/>
        </p:blipFill>
        <p:spPr>
          <a:xfrm>
            <a:off x="6337440" y="3276720"/>
            <a:ext cx="212076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036880" cy="310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429000" y="3381480"/>
            <a:ext cx="1876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76320"/>
            <a:ext cx="7313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assinating Trujillo took a long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ntral Intelligence Agency (CIA), in the USA helped the Dominicans plan the death of Trujillo in 1961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apons had to come from outside the country because they could not count on the weapons of the Dominican Milit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A started sending weapons to Dominican Republic in 19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800600" y="44956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012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on October 24, 1891 in San Cristobal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parents were poor and of mixed rac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uropean/black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ap of Dominican Republic"/>
          <p:cNvPicPr/>
          <p:nvPr/>
        </p:nvPicPr>
        <p:blipFill>
          <a:blip r:embed="rId1"/>
          <a:stretch/>
        </p:blipFill>
        <p:spPr>
          <a:xfrm>
            <a:off x="2874960" y="2211480"/>
            <a:ext cx="393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27, he joins the National Pol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was trained by the US military when they occupied the Dominican Republ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ly rose in ranks as an Officer and at this time, he met many influential people and created a chain of all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919 and 1925, he rose from Lieutenant to Commanding Colonel of the National Pol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jillo was the head of the Military for Horacio Vásquez, who was President at th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30, Trujillo along with the US government got rid of Vásq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is revolution, Trujillo became Presid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his inauguration, the Congress proclaimed the “Age of Trujillo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0160" y="762120"/>
            <a:ext cx="724032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 was President from 1930 until 1938 and from 1942 until 1952.  He was also Minister of Foreign Relations from 1953 to 196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 when he was not the President nor the Minister of Foreign Relations, he was the Dictator of the Dominican Republi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’s flag during his presiden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Flag of the Generalissime"/>
          <p:cNvPicPr/>
          <p:nvPr/>
        </p:nvPicPr>
        <p:blipFill>
          <a:blip r:embed="rId1"/>
          <a:stretch/>
        </p:blipFill>
        <p:spPr>
          <a:xfrm>
            <a:off x="3357720" y="3200400"/>
            <a:ext cx="319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363760" y="230040"/>
            <a:ext cx="6703920" cy="63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n he was President, Trujillo the political party “El Partido Dominicano” that controlled the politics of the Dominican Republic for three decade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uring the Age of Trujillo, the Dominican economy had the most stability, however the citizens had no political freedo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 Dominicans had to have a Photograph of Trujillo in their homes and had to include him in their praye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trujillo3"/>
          <p:cNvPicPr/>
          <p:nvPr/>
        </p:nvPicPr>
        <p:blipFill>
          <a:blip r:embed="rId1"/>
          <a:stretch/>
        </p:blipFill>
        <p:spPr>
          <a:xfrm>
            <a:off x="0" y="0"/>
            <a:ext cx="24084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8960" y="1080"/>
            <a:ext cx="731340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used his position in the military to obtain and maintain his po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used the “Policía Secreta” as spies in the Dominican Republic and many other countri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government of Haiti found out that they were being spied on by Trujillo, the Haitians killed the sp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taliation, Trujillo murdered 20,000 Haitians en 193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many citizens that were against the atrocities of Truji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, better known as “Las mariposas” (the butterflies), were three activists that were against Trujillo’s dictatorship. They were four sisters from Ojo de Agua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fought against the governments injustices by informing the public about what was really happening in the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6" descr="picture/image_Patricia_Marie_Minerva_Mirabal_sisters"/>
          <p:cNvPicPr/>
          <p:nvPr/>
        </p:nvPicPr>
        <p:blipFill>
          <a:blip r:embed="rId1"/>
          <a:stretch/>
        </p:blipFill>
        <p:spPr>
          <a:xfrm>
            <a:off x="3200400" y="4734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759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 were some of the most influential revolutionists during Trujillo’s Regi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had them mur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isters were part of an underground movement against Trujillo’s gover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er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ria Tere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Patria%20SMALLER"/>
          <p:cNvPicPr/>
          <p:nvPr/>
        </p:nvPicPr>
        <p:blipFill>
          <a:blip r:embed="rId1"/>
          <a:stretch/>
        </p:blipFill>
        <p:spPr>
          <a:xfrm>
            <a:off x="990720" y="2971800"/>
            <a:ext cx="2012760" cy="259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inerva%20SMALLER"/>
          <p:cNvPicPr/>
          <p:nvPr/>
        </p:nvPicPr>
        <p:blipFill>
          <a:blip r:embed="rId2"/>
          <a:stretch/>
        </p:blipFill>
        <p:spPr>
          <a:xfrm>
            <a:off x="3903840" y="2971800"/>
            <a:ext cx="1963440" cy="252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3"/>
          <a:stretch/>
        </p:blipFill>
        <p:spPr>
          <a:xfrm>
            <a:off x="6532560" y="2971800"/>
            <a:ext cx="154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32:27Z</dcterms:created>
  <dc:creator>Jennifer Dawson</dc:creator>
  <dc:description/>
  <dc:language>en-US</dc:language>
  <cp:lastModifiedBy>Helen Zumaeta</cp:lastModifiedBy>
  <cp:lastPrinted>2015-02-02T18:44:00Z</cp:lastPrinted>
  <dcterms:modified xsi:type="dcterms:W3CDTF">2015-02-03T13:41:20Z</dcterms:modified>
  <cp:revision>18</cp:revision>
  <dc:subject/>
  <dc:title>Rafael Trujillo</dc:title>
</cp:coreProperties>
</file>